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512C4-22F2-43AE-B6A8-0C8BE2AF7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7E038-29CE-4401-B5D3-71F4AB670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10609-E3BC-4AFB-8F0F-CEBDFEAD7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C2DFD-3A91-4DD7-B478-1C8ABC7AE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F8BFB7E-75B3-45C1-923E-1C05664C5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52E718-6CE0-4A04-8D13-668DB6626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97C600-8DDF-45FE-A000-48238D313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B6D75C-85EE-46F5-AE3A-44A480830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562B75-102B-4646-AE78-D61E00C3B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C41EDE-35E5-4956-9BA0-3CF4F4062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BBDF38-5A04-49B1-BEDE-3A400F12E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57013-31C7-406D-9F55-E0EAE5F91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A0C708-EFDD-4DE9-A041-343C30891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43C839-1815-49B0-9FBD-3288EEBB7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1BFB769-0E44-47D2-922D-EA7ED0FF7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0EEE7FF-90FD-4774-A74C-C3DF40841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2A32193-849F-4FCF-A956-53306539D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6566E-80A4-4A4E-A828-C4339F211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F9D9F-B568-4870-A371-04FE9E341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D3664-4CB1-4A6B-B932-C78F7BDBB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B97F7-A18E-4348-AEB6-505BEBFA7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47B7B-46CC-4C7A-979F-6385B5FA8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650C0-FAA3-4001-968A-0F431CDDB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E8787-45A6-4AB7-A784-D5978B01F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EBCC-DE81-498D-827E-E68A01DD44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2336-0049-4998-AFC8-665E8A5B83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www.bestwaytoinvest.com/UserFiles/Image/Russia-c.jpg&amp;imgrefurl=http://www.bestwaytoinvest.com/russia&amp;usg=__8TcAv4irTc9FYSTZYKTShQ55trI=&amp;h=705&amp;w=663&amp;sz=82&amp;hl=en&amp;start=3&amp;zoom=1&amp;itbs=1&amp;tbnid=vS0nfjQiHHezBM:&amp;tbnh=140&amp;tbnw=132&amp;prev=/images%3Fq%3Dimages%2Bof%2Brussia%26hl%3Den%26sa%3DX%26tbs%3Disch:1%26prmd%3Divnsu"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mate</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ed B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vian Tra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y Auco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601200" cy="6864480"/>
          </a:xfrm>
          <a:prstGeom prst="rect">
            <a:avLst/>
          </a:prstGeom>
          <a:ln w="0">
            <a:noFill/>
          </a:ln>
        </p:spPr>
      </p:pic>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0" lang="en-US" sz="4400" spc="-1" strike="noStrike">
                <a:solidFill>
                  <a:srgbClr val="000000"/>
                </a:solidFill>
                <a:latin typeface="Arial"/>
              </a:rPr>
              <a:t>Russia’s Climate</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is known for its bitter winters . The country’s harsh climate helped stop      various invaders during its history, including the large armies of Napoleon in 1812 and Adolf Hit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eppe Climate</a:t>
            </a: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ters in Russia are usually lasts awhile and is very cold. And summers in Russia are short with temperatures to hot to relatively cool. The tall mountains along the country’s southern boundary mostly prevent th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9" name="" descr="">
            <a:hlinkClick r:id="rId1"/>
          </p:cNvPr>
          <p:cNvPicPr/>
          <p:nvPr/>
        </p:nvPicPr>
        <p:blipFill>
          <a:blip r:embed="rId2"/>
          <a:stretch/>
        </p:blipFill>
        <p:spPr>
          <a:xfrm>
            <a:off x="0" y="0"/>
            <a:ext cx="11201400" cy="6858000"/>
          </a:xfrm>
          <a:prstGeom prst="rect">
            <a:avLst/>
          </a:prstGeom>
          <a:ln w="0">
            <a:noFill/>
          </a:ln>
        </p:spPr>
      </p:pic>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undra Climate</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undra is located at the top of the northern hemisphere in Europe , Asia , and North America. The Siberian Tundra is located in the northeastern part of Russia .In the tundra ,winters are long and summers are short. During the winter temperatures are usually below freezing and the ground is covered with snow and ice. Summers are marshy from pudd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6:44:53Z</dcterms:created>
  <dc:creator> </dc:creator>
  <dc:description/>
  <dc:language>en-US</dc:language>
  <cp:lastModifiedBy> </cp:lastModifiedBy>
  <dcterms:modified xsi:type="dcterms:W3CDTF">2010-12-20T17:24:02Z</dcterms:modified>
  <cp:revision>3</cp:revision>
  <dc:subject/>
  <dc:title>Climate</dc:title>
</cp:coreProperties>
</file>